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28D-6882-48E2-8CBD-CEAA35F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8F4-29B6-4DA2-ABAB-CBF3F83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DD9-BAE6-4E59-8F4B-B92F00B3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3A0-06E4-4003-8327-80923C4A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90A-EEE3-4BC2-A0D0-D5DDBC71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FB0-3BDE-40FC-90C9-B91FBB5B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83D-F171-4CE5-9509-9E11DA48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89F-419C-468B-8AEB-E44842E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4B0-766A-4EFF-B0CE-164FAB2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194-DBA6-403B-998B-3115A20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C9E-CAFC-4DC8-9B20-8AA92CB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759-FE8C-488F-8E3A-C4983F8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65F-5178-4E09-A271-CD4A03FA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371680" cy="1924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CÈNE DU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34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335772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1847880" cy="247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9640" y="4667400"/>
            <a:ext cx="2160720" cy="161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80000" y="5013360"/>
            <a:ext cx="3086280" cy="14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4836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9:53:58Z</dcterms:created>
  <dc:creator>Director</dc:creator>
  <dc:description/>
  <dc:language>en-US</dc:language>
  <cp:lastModifiedBy>Director</cp:lastModifiedBy>
  <dcterms:modified xsi:type="dcterms:W3CDTF">2013-03-21T10:00:15Z</dcterms:modified>
  <cp:revision>1</cp:revision>
  <dc:subject/>
  <dc:title>Diapositiva 1</dc:title>
</cp:coreProperties>
</file>